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284-25BF-463B-8322-DC09BFDB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28E-4575-4A94-B269-1B982B42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3EC-CB4C-42BF-955B-F229FDBD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B75-636D-4C55-9637-FA28F8D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CF7-9384-4AA3-BF38-55D9064F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B90-D5EA-4A9C-81FB-1C8E961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05B9-C31F-4198-A177-AC377A8A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C579-F80D-4C0B-A1FB-DA5B081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24CD-EF85-4145-9D6D-D1A8690D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3C2C-B307-41D9-9CF0-3632ADE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A9A4-7CD2-4132-A642-DF5448A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229-FAB5-41C5-AAF7-F64D61F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B3BA-5E2C-4585-B6BE-7194029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F7FE-04AE-4DB6-86EF-065F905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7ED1-D102-48AE-BAF1-8A9750E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95D8-51F2-4141-94F6-64FFE1B2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7E7E-4C63-4662-823C-8B1B3961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5A7-EC94-4475-96A0-75B6C75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B73-74FC-43ED-A399-2F905A6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68B-6437-4C80-8E18-2D27D7D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A5C-69E2-4504-BD14-05873E8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74D-F8C6-46D7-B18D-1DAD4FD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E32-9E69-4EB9-BCC2-884D196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588-15BB-4270-A61D-B0C77C1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685-6F84-4FCC-90F6-DB5E4D8BE7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3BD1-4DF9-441D-8A5C-32A862BC6A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Times New Roman"/>
              </a:rPr>
              <a:t>Circles</a:t>
            </a:r>
            <a:endParaRPr b="0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800600" y="2133720"/>
            <a:ext cx="4343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chords are congruent, then arcs are congruent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" name="Group 21"/>
          <p:cNvGrpSpPr/>
          <p:nvPr/>
        </p:nvGrpSpPr>
        <p:grpSpPr>
          <a:xfrm>
            <a:off x="2286000" y="1600200"/>
            <a:ext cx="2438280" cy="3370680"/>
            <a:chOff x="2286000" y="1600200"/>
            <a:chExt cx="2438280" cy="3370680"/>
          </a:xfrm>
        </p:grpSpPr>
        <p:sp>
          <p:nvSpPr>
            <p:cNvPr id="237" name="Line 7"/>
            <p:cNvSpPr/>
            <p:nvPr/>
          </p:nvSpPr>
          <p:spPr>
            <a:xfrm>
              <a:off x="2666880" y="2362320"/>
              <a:ext cx="1447920" cy="1828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Text Box 9"/>
            <p:cNvSpPr/>
            <p:nvPr/>
          </p:nvSpPr>
          <p:spPr>
            <a:xfrm>
              <a:off x="2286000" y="160020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4114800" y="419112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1371600" y="1828800"/>
            <a:ext cx="777600" cy="3751560"/>
            <a:chOff x="1371600" y="1828800"/>
            <a:chExt cx="777600" cy="3751560"/>
          </a:xfrm>
        </p:grpSpPr>
        <p:sp>
          <p:nvSpPr>
            <p:cNvPr id="241" name="Line 8"/>
            <p:cNvSpPr/>
            <p:nvPr/>
          </p:nvSpPr>
          <p:spPr>
            <a:xfrm flipH="1">
              <a:off x="1736280" y="2509920"/>
              <a:ext cx="412920" cy="22957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Text Box 11"/>
            <p:cNvSpPr/>
            <p:nvPr/>
          </p:nvSpPr>
          <p:spPr>
            <a:xfrm>
              <a:off x="1523880" y="1828800"/>
              <a:ext cx="609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1371600" y="480060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Object 0"/>
              <p:cNvSpPr txBox="1"/>
              <p:nvPr/>
            </p:nvSpPr>
            <p:spPr>
              <a:xfrm>
                <a:off x="990720" y="5638680"/>
                <a:ext cx="28954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5" name="Group 18"/>
          <p:cNvGrpSpPr/>
          <p:nvPr/>
        </p:nvGrpSpPr>
        <p:grpSpPr>
          <a:xfrm>
            <a:off x="4191120" y="5411160"/>
            <a:ext cx="4952880" cy="1164240"/>
            <a:chOff x="4191120" y="5411160"/>
            <a:chExt cx="4952880" cy="1164240"/>
          </a:xfrm>
        </p:grpSpPr>
        <p:sp>
          <p:nvSpPr>
            <p:cNvPr id="246" name="Text Box 15"/>
            <p:cNvSpPr/>
            <p:nvPr/>
          </p:nvSpPr>
          <p:spPr>
            <a:xfrm>
              <a:off x="4191120" y="5643360"/>
              <a:ext cx="4952880" cy="93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then AB </a:t>
              </a:r>
              <a:r>
                <a:rPr b="0" lang="en-US" sz="5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Arc 16"/>
            <p:cNvSpPr/>
            <p:nvPr/>
          </p:nvSpPr>
          <p:spPr>
            <a:xfrm rot="19026600">
              <a:off x="5715000" y="5562360"/>
              <a:ext cx="762120" cy="80748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Arc 17"/>
            <p:cNvSpPr/>
            <p:nvPr/>
          </p:nvSpPr>
          <p:spPr>
            <a:xfrm rot="19038600">
              <a:off x="7327800" y="5567400"/>
              <a:ext cx="752400" cy="7974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914400" y="2514600"/>
            <a:ext cx="3048120" cy="1143000"/>
            <a:chOff x="914400" y="2514600"/>
            <a:chExt cx="3048120" cy="1143000"/>
          </a:xfrm>
        </p:grpSpPr>
        <p:sp>
          <p:nvSpPr>
            <p:cNvPr id="250" name="Line 19"/>
            <p:cNvSpPr/>
            <p:nvPr/>
          </p:nvSpPr>
          <p:spPr>
            <a:xfrm>
              <a:off x="914400" y="3581280"/>
              <a:ext cx="68580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 flipV="1">
              <a:off x="3657600" y="2514600"/>
              <a:ext cx="30492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572000" y="1371600"/>
            <a:ext cx="4572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a diameter is perpendicular to a chord, then it bisects the chord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3200400" y="1752480"/>
            <a:ext cx="1066680" cy="4132440"/>
            <a:chOff x="3200400" y="1752480"/>
            <a:chExt cx="1066680" cy="4132440"/>
          </a:xfrm>
        </p:grpSpPr>
        <p:sp>
          <p:nvSpPr>
            <p:cNvPr id="257" name="Line 7"/>
            <p:cNvSpPr/>
            <p:nvPr/>
          </p:nvSpPr>
          <p:spPr>
            <a:xfrm>
              <a:off x="3429000" y="2590920"/>
              <a:ext cx="0" cy="25146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3200400" y="1752480"/>
              <a:ext cx="9907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3276720" y="4952880"/>
              <a:ext cx="9903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0" name="Text Box 10"/>
          <p:cNvSpPr/>
          <p:nvPr/>
        </p:nvSpPr>
        <p:spPr>
          <a:xfrm>
            <a:off x="28954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523880" y="5899320"/>
                <a:ext cx="64296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2" name="Group 15"/>
          <p:cNvGrpSpPr/>
          <p:nvPr/>
        </p:nvGrpSpPr>
        <p:grpSpPr>
          <a:xfrm>
            <a:off x="762120" y="3505320"/>
            <a:ext cx="4190760" cy="779760"/>
            <a:chOff x="762120" y="3505320"/>
            <a:chExt cx="4190760" cy="779760"/>
          </a:xfrm>
        </p:grpSpPr>
        <p:sp>
          <p:nvSpPr>
            <p:cNvPr id="263" name="Line 6"/>
            <p:cNvSpPr/>
            <p:nvPr/>
          </p:nvSpPr>
          <p:spPr>
            <a:xfrm>
              <a:off x="1295280" y="3809880"/>
              <a:ext cx="289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762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4191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572000" y="1371600"/>
            <a:ext cx="4572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a diameter is perpendicular to a chord, then it bisects the arc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3200400" y="1752480"/>
            <a:ext cx="1066680" cy="4132440"/>
            <a:chOff x="3200400" y="1752480"/>
            <a:chExt cx="1066680" cy="4132440"/>
          </a:xfrm>
        </p:grpSpPr>
        <p:sp>
          <p:nvSpPr>
            <p:cNvPr id="271" name="Line 7"/>
            <p:cNvSpPr/>
            <p:nvPr/>
          </p:nvSpPr>
          <p:spPr>
            <a:xfrm>
              <a:off x="3429000" y="2590920"/>
              <a:ext cx="0" cy="25146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3200400" y="1752480"/>
              <a:ext cx="9907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3276720" y="4952880"/>
              <a:ext cx="9903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4" name="Text Box 10"/>
          <p:cNvSpPr/>
          <p:nvPr/>
        </p:nvSpPr>
        <p:spPr>
          <a:xfrm>
            <a:off x="28954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1"/>
              <p:cNvSpPr txBox="1"/>
              <p:nvPr/>
            </p:nvSpPr>
            <p:spPr>
              <a:xfrm>
                <a:off x="914400" y="5899320"/>
                <a:ext cx="37227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Group 12"/>
          <p:cNvGrpSpPr/>
          <p:nvPr/>
        </p:nvGrpSpPr>
        <p:grpSpPr>
          <a:xfrm>
            <a:off x="762120" y="3505320"/>
            <a:ext cx="4190760" cy="779760"/>
            <a:chOff x="762120" y="3505320"/>
            <a:chExt cx="4190760" cy="779760"/>
          </a:xfrm>
        </p:grpSpPr>
        <p:sp>
          <p:nvSpPr>
            <p:cNvPr id="277" name="Line 13"/>
            <p:cNvSpPr/>
            <p:nvPr/>
          </p:nvSpPr>
          <p:spPr>
            <a:xfrm>
              <a:off x="1295280" y="3809880"/>
              <a:ext cx="289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762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4191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4487400" y="5809680"/>
            <a:ext cx="3239280" cy="1050120"/>
            <a:chOff x="4487400" y="5809680"/>
            <a:chExt cx="3239280" cy="1050120"/>
          </a:xfrm>
        </p:grpSpPr>
        <p:sp>
          <p:nvSpPr>
            <p:cNvPr id="281" name="Rectangle 16"/>
            <p:cNvSpPr/>
            <p:nvPr/>
          </p:nvSpPr>
          <p:spPr>
            <a:xfrm>
              <a:off x="4487400" y="5927760"/>
              <a:ext cx="3239280" cy="93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en-US" sz="5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 BH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Arc 17"/>
            <p:cNvSpPr/>
            <p:nvPr/>
          </p:nvSpPr>
          <p:spPr>
            <a:xfrm flipV="1" rot="13218000">
              <a:off x="5028480" y="5942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Arc 18"/>
            <p:cNvSpPr/>
            <p:nvPr/>
          </p:nvSpPr>
          <p:spPr>
            <a:xfrm flipV="1" rot="13218000">
              <a:off x="6705000" y="5942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495680" y="1447920"/>
            <a:ext cx="464832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Two chords are </a:t>
            </a:r>
            <a:r>
              <a:rPr b="0" lang="en-US" sz="5500" spc="-1" strike="noStrike">
                <a:solidFill>
                  <a:srgbClr val="eaeaea"/>
                </a:solidFill>
                <a:latin typeface="Symbol"/>
                <a:ea typeface="Symbol"/>
              </a:rPr>
              <a:t></a:t>
            </a: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 if and only if they are the same distance from the center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8" name="Group 21"/>
          <p:cNvGrpSpPr/>
          <p:nvPr/>
        </p:nvGrpSpPr>
        <p:grpSpPr>
          <a:xfrm>
            <a:off x="2286000" y="3429000"/>
            <a:ext cx="1143000" cy="990720"/>
            <a:chOff x="2286000" y="3429000"/>
            <a:chExt cx="1143000" cy="990720"/>
          </a:xfrm>
        </p:grpSpPr>
        <p:sp>
          <p:nvSpPr>
            <p:cNvPr id="289" name="Line 8"/>
            <p:cNvSpPr/>
            <p:nvPr/>
          </p:nvSpPr>
          <p:spPr>
            <a:xfrm flipH="1">
              <a:off x="2286000" y="3809880"/>
              <a:ext cx="457200" cy="609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 flipV="1">
              <a:off x="2743200" y="3429000"/>
              <a:ext cx="6858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609480" y="1523880"/>
            <a:ext cx="4038840" cy="4361040"/>
            <a:chOff x="609480" y="1523880"/>
            <a:chExt cx="4038840" cy="4361040"/>
          </a:xfrm>
        </p:grpSpPr>
        <p:sp>
          <p:nvSpPr>
            <p:cNvPr id="292" name="Line 7"/>
            <p:cNvSpPr/>
            <p:nvPr/>
          </p:nvSpPr>
          <p:spPr>
            <a:xfrm>
              <a:off x="1219320" y="3505320"/>
              <a:ext cx="1981080" cy="167616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3" name="Group 18"/>
            <p:cNvGrpSpPr/>
            <p:nvPr/>
          </p:nvGrpSpPr>
          <p:grpSpPr>
            <a:xfrm>
              <a:off x="2666880" y="1523880"/>
              <a:ext cx="1981440" cy="3827880"/>
              <a:chOff x="2666880" y="1523880"/>
              <a:chExt cx="1981440" cy="3827880"/>
            </a:xfrm>
          </p:grpSpPr>
          <p:sp>
            <p:nvSpPr>
              <p:cNvPr id="294" name="Line 6"/>
              <p:cNvSpPr/>
              <p:nvPr/>
            </p:nvSpPr>
            <p:spPr>
              <a:xfrm>
                <a:off x="2971800" y="2438280"/>
                <a:ext cx="990720" cy="213372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Text Box 10"/>
              <p:cNvSpPr/>
              <p:nvPr/>
            </p:nvSpPr>
            <p:spPr>
              <a:xfrm>
                <a:off x="2666880" y="1523880"/>
                <a:ext cx="76212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500" spc="-1" strike="noStrike">
                    <a:solidFill>
                      <a:srgbClr val="66ff33"/>
                    </a:solidFill>
                    <a:latin typeface="Times New Roman"/>
                  </a:rPr>
                  <a:t>A</a:t>
                </a: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Text Box 11"/>
              <p:cNvSpPr/>
              <p:nvPr/>
            </p:nvSpPr>
            <p:spPr>
              <a:xfrm>
                <a:off x="3886200" y="4419720"/>
                <a:ext cx="76212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500" spc="-1" strike="noStrike">
                    <a:solidFill>
                      <a:srgbClr val="66ff33"/>
                    </a:solidFill>
                    <a:latin typeface="Times New Roman"/>
                  </a:rPr>
                  <a:t>B</a:t>
                </a: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12"/>
            <p:cNvSpPr/>
            <p:nvPr/>
          </p:nvSpPr>
          <p:spPr>
            <a:xfrm>
              <a:off x="609480" y="2895480"/>
              <a:ext cx="762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13"/>
            <p:cNvSpPr/>
            <p:nvPr/>
          </p:nvSpPr>
          <p:spPr>
            <a:xfrm>
              <a:off x="3124080" y="4952880"/>
              <a:ext cx="762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33cc"/>
                  </a:solidFill>
                  <a:latin typeface="Times New Roman"/>
                </a:rPr>
                <a:t>D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1828800" y="2819520"/>
            <a:ext cx="2438280" cy="2227320"/>
            <a:chOff x="1828800" y="2819520"/>
            <a:chExt cx="2438280" cy="2227320"/>
          </a:xfrm>
        </p:grpSpPr>
        <p:sp>
          <p:nvSpPr>
            <p:cNvPr id="300" name="Text Box 14"/>
            <p:cNvSpPr/>
            <p:nvPr/>
          </p:nvSpPr>
          <p:spPr>
            <a:xfrm>
              <a:off x="2209680" y="312408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3352680" y="281952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828800" y="426708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024"/>
              <p:cNvSpPr txBox="1"/>
              <p:nvPr/>
            </p:nvSpPr>
            <p:spPr>
              <a:xfrm>
                <a:off x="1174680" y="5759280"/>
                <a:ext cx="7174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⇔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Parts of a Circle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514600" y="1676520"/>
            <a:ext cx="3886200" cy="38862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4419720" y="3581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0" y="358128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center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038480" y="3124080"/>
            <a:ext cx="381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914400" y="579132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Use the center to name a circle.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553080" y="190512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ircle F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7010280" y="2743200"/>
            <a:ext cx="1600200" cy="779760"/>
            <a:chOff x="7010280" y="2743200"/>
            <a:chExt cx="1600200" cy="779760"/>
          </a:xfrm>
        </p:grpSpPr>
        <p:grpSp>
          <p:nvGrpSpPr>
            <p:cNvPr id="134" name="Group 13"/>
            <p:cNvGrpSpPr/>
            <p:nvPr/>
          </p:nvGrpSpPr>
          <p:grpSpPr>
            <a:xfrm>
              <a:off x="7010280" y="2743200"/>
              <a:ext cx="1600200" cy="779760"/>
              <a:chOff x="7010280" y="2743200"/>
              <a:chExt cx="1600200" cy="779760"/>
            </a:xfrm>
          </p:grpSpPr>
          <p:sp>
            <p:nvSpPr>
              <p:cNvPr id="135" name="Oval 10"/>
              <p:cNvSpPr/>
              <p:nvPr/>
            </p:nvSpPr>
            <p:spPr>
              <a:xfrm>
                <a:off x="7010280" y="2895480"/>
                <a:ext cx="457200" cy="457200"/>
              </a:xfrm>
              <a:prstGeom prst="ellipse">
                <a:avLst/>
              </a:prstGeom>
              <a:noFill/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Text Box 12"/>
              <p:cNvSpPr/>
              <p:nvPr/>
            </p:nvSpPr>
            <p:spPr>
              <a:xfrm>
                <a:off x="7467480" y="2743200"/>
                <a:ext cx="11430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eaeaea"/>
                    </a:solidFill>
                    <a:latin typeface="Times New Roman"/>
                  </a:rPr>
                  <a:t>F</a:t>
                </a:r>
                <a:endParaRPr b="0" lang="en-US" sz="4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7" name="Oval 14"/>
            <p:cNvSpPr/>
            <p:nvPr/>
          </p:nvSpPr>
          <p:spPr>
            <a:xfrm>
              <a:off x="716292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Parts of a Circle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2514600" y="1676520"/>
            <a:ext cx="3886200" cy="38862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4419720" y="3581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286000" y="5638680"/>
            <a:ext cx="510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gments &amp; Lines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352680" y="1981080"/>
            <a:ext cx="3048120" cy="129564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76920" y="2057400"/>
            <a:ext cx="2895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9900"/>
                </a:solidFill>
                <a:latin typeface="Times New Roman"/>
              </a:rPr>
              <a:t>chor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514600" y="3657600"/>
            <a:ext cx="388620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743200" y="2895480"/>
            <a:ext cx="2438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cc"/>
                </a:solidFill>
                <a:latin typeface="Times New Roman"/>
              </a:rPr>
              <a:t>diamete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495680" y="3657600"/>
            <a:ext cx="1143000" cy="15238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426708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33"/>
                </a:solidFill>
                <a:latin typeface="Times New Roman"/>
              </a:rPr>
              <a:t>radius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5334120" y="1905120"/>
            <a:ext cx="1676160" cy="39621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609480" y="228600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</a:rPr>
              <a:t>tangent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6705720" y="2590920"/>
            <a:ext cx="2057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secant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14600" y="19051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6477120" y="2133720"/>
            <a:ext cx="2057400" cy="20574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6477120" y="3200400"/>
            <a:ext cx="2057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u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Radius/diamete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ircumferenc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4" descr="C:\Program Files\Microsoft Office\Clipart\standard\stddir1\bd05092_.wmf"/>
          <p:cNvPicPr/>
          <p:nvPr/>
        </p:nvPicPr>
        <p:blipFill>
          <a:blip r:embed="rId1"/>
          <a:stretch/>
        </p:blipFill>
        <p:spPr>
          <a:xfrm>
            <a:off x="2057400" y="228600"/>
            <a:ext cx="1292400" cy="117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Program Files\Microsoft Office\Clipart\standard\stddir1\bd05092_.wmf"/>
          <p:cNvPicPr/>
          <p:nvPr/>
        </p:nvPicPr>
        <p:blipFill>
          <a:blip r:embed="rId2"/>
          <a:stretch/>
        </p:blipFill>
        <p:spPr>
          <a:xfrm>
            <a:off x="5867280" y="228600"/>
            <a:ext cx="1292400" cy="117324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746748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7467480" y="320040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87600" y="2286000"/>
            <a:ext cx="6581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radius =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½diamete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r = ½ 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diameter = 2(radius)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d = 2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66680" y="5873760"/>
            <a:ext cx="80773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 = 2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∏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o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  C = ∏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ypes of Angl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38080" y="175248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2590920"/>
            <a:ext cx="487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- Vertex is on the center.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219320" y="1676520"/>
            <a:ext cx="6781680" cy="4724280"/>
            <a:chOff x="1219320" y="1676520"/>
            <a:chExt cx="6781680" cy="4724280"/>
          </a:xfrm>
        </p:grpSpPr>
        <p:sp>
          <p:nvSpPr>
            <p:cNvPr id="167" name="Oval 4"/>
            <p:cNvSpPr/>
            <p:nvPr/>
          </p:nvSpPr>
          <p:spPr>
            <a:xfrm>
              <a:off x="5791320" y="1676520"/>
              <a:ext cx="2209680" cy="2209680"/>
            </a:xfrm>
            <a:prstGeom prst="ellipse">
              <a:avLst/>
            </a:prstGeom>
            <a:solidFill>
              <a:srgbClr val="003399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Oval 5"/>
            <p:cNvSpPr/>
            <p:nvPr/>
          </p:nvSpPr>
          <p:spPr>
            <a:xfrm>
              <a:off x="1219320" y="4191120"/>
              <a:ext cx="2209680" cy="2209680"/>
            </a:xfrm>
            <a:prstGeom prst="ellipse">
              <a:avLst/>
            </a:prstGeom>
            <a:solidFill>
              <a:srgbClr val="003399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6858000" y="274320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2286000" y="525780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" name="Group 17"/>
          <p:cNvGrpSpPr/>
          <p:nvPr/>
        </p:nvGrpSpPr>
        <p:grpSpPr>
          <a:xfrm>
            <a:off x="6915240" y="1066320"/>
            <a:ext cx="1676160" cy="3048480"/>
            <a:chOff x="6915240" y="1066320"/>
            <a:chExt cx="1676160" cy="3048480"/>
          </a:xfrm>
        </p:grpSpPr>
        <p:sp>
          <p:nvSpPr>
            <p:cNvPr id="172" name="Line 10"/>
            <p:cNvSpPr/>
            <p:nvPr/>
          </p:nvSpPr>
          <p:spPr>
            <a:xfrm flipV="1">
              <a:off x="6915240" y="1066320"/>
              <a:ext cx="914400" cy="17528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>
              <a:off x="6915240" y="2819520"/>
              <a:ext cx="1676160" cy="129528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Text Box 12"/>
          <p:cNvSpPr/>
          <p:nvPr/>
        </p:nvSpPr>
        <p:spPr>
          <a:xfrm>
            <a:off x="4038480" y="426708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Inscribed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267080" y="5105520"/>
            <a:ext cx="487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- Vertex is on the circle.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457200" y="3276720"/>
            <a:ext cx="2666880" cy="2743200"/>
            <a:chOff x="457200" y="3276720"/>
            <a:chExt cx="2666880" cy="2743200"/>
          </a:xfrm>
        </p:grpSpPr>
        <p:sp>
          <p:nvSpPr>
            <p:cNvPr id="177" name="Line 14"/>
            <p:cNvSpPr/>
            <p:nvPr/>
          </p:nvSpPr>
          <p:spPr>
            <a:xfrm flipH="1" flipV="1">
              <a:off x="1905120" y="3276720"/>
              <a:ext cx="1218960" cy="27432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 flipV="1">
              <a:off x="457200" y="4952880"/>
              <a:ext cx="2666880" cy="10670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ypes of Arc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4724280" y="2209680"/>
            <a:ext cx="3124440" cy="3124440"/>
          </a:xfrm>
          <a:prstGeom prst="ellipse">
            <a:avLst/>
          </a:prstGeom>
          <a:solidFill>
            <a:srgbClr val="0033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 flipH="1" flipV="1">
            <a:off x="5486040" y="1600200"/>
            <a:ext cx="762120" cy="22096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4419720" y="3809880"/>
            <a:ext cx="1828800" cy="17528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32448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7150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952880" y="4952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04920" y="914400"/>
            <a:ext cx="38862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705720" y="5181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086600" y="5105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" name="Group 28"/>
          <p:cNvGrpSpPr/>
          <p:nvPr/>
        </p:nvGrpSpPr>
        <p:grpSpPr>
          <a:xfrm>
            <a:off x="1879200" y="3598560"/>
            <a:ext cx="3073680" cy="1337400"/>
            <a:chOff x="1879200" y="3598560"/>
            <a:chExt cx="3073680" cy="1337400"/>
          </a:xfrm>
        </p:grpSpPr>
        <p:sp>
          <p:nvSpPr>
            <p:cNvPr id="191" name="Text Box 15"/>
            <p:cNvSpPr/>
            <p:nvPr/>
          </p:nvSpPr>
          <p:spPr>
            <a:xfrm>
              <a:off x="1981080" y="403848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Arc 18"/>
            <p:cNvSpPr/>
            <p:nvPr/>
          </p:nvSpPr>
          <p:spPr>
            <a:xfrm rot="19193400">
              <a:off x="2057040" y="380988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" name="Group 23"/>
          <p:cNvGrpSpPr/>
          <p:nvPr/>
        </p:nvGrpSpPr>
        <p:grpSpPr>
          <a:xfrm>
            <a:off x="1905120" y="1465200"/>
            <a:ext cx="2971800" cy="1371960"/>
            <a:chOff x="1905120" y="1465200"/>
            <a:chExt cx="2971800" cy="1371960"/>
          </a:xfrm>
        </p:grpSpPr>
        <p:sp>
          <p:nvSpPr>
            <p:cNvPr id="194" name="Text Box 14"/>
            <p:cNvSpPr/>
            <p:nvPr/>
          </p:nvSpPr>
          <p:spPr>
            <a:xfrm>
              <a:off x="1905120" y="205740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N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Arc 19"/>
            <p:cNvSpPr/>
            <p:nvPr/>
          </p:nvSpPr>
          <p:spPr>
            <a:xfrm rot="19193400">
              <a:off x="2209680" y="167652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6" name="Group 21"/>
          <p:cNvGrpSpPr/>
          <p:nvPr/>
        </p:nvGrpSpPr>
        <p:grpSpPr>
          <a:xfrm>
            <a:off x="1905120" y="5503680"/>
            <a:ext cx="2971800" cy="1356120"/>
            <a:chOff x="1905120" y="5503680"/>
            <a:chExt cx="2971800" cy="1356120"/>
          </a:xfrm>
        </p:grpSpPr>
        <p:sp>
          <p:nvSpPr>
            <p:cNvPr id="197" name="Text Box 16"/>
            <p:cNvSpPr/>
            <p:nvPr/>
          </p:nvSpPr>
          <p:spPr>
            <a:xfrm>
              <a:off x="1905120" y="608004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ON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Arc 20"/>
            <p:cNvSpPr/>
            <p:nvPr/>
          </p:nvSpPr>
          <p:spPr>
            <a:xfrm rot="19193400">
              <a:off x="2209320" y="571500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9" name="Line 27"/>
          <p:cNvSpPr/>
          <p:nvPr/>
        </p:nvSpPr>
        <p:spPr>
          <a:xfrm>
            <a:off x="6248520" y="3809880"/>
            <a:ext cx="838080" cy="22100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144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51055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67816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6858000" y="3047760"/>
            <a:ext cx="1577880" cy="1941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858000" y="5029200"/>
            <a:ext cx="1905120" cy="1371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010280" y="4572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8229600" y="3809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8600" y="4419720"/>
            <a:ext cx="4495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ff33"/>
                </a:solidFill>
                <a:latin typeface="Times New Roman"/>
              </a:rPr>
              <a:t>360 – 68 = 292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193280" y="5562720"/>
            <a:ext cx="1506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ff33"/>
                </a:solidFill>
                <a:latin typeface="Times New Roman"/>
              </a:rPr>
              <a:t>292</a:t>
            </a:r>
            <a:r>
              <a:rPr b="1" lang="en-US" sz="55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°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2120" y="3200400"/>
            <a:ext cx="6933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 = 180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48769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65530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 flipV="1">
            <a:off x="6629400" y="3047760"/>
            <a:ext cx="1600200" cy="1941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4952520" y="5029200"/>
            <a:ext cx="1600200" cy="1828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752480" y="4952880"/>
            <a:ext cx="15242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3429000" y="4495680"/>
            <a:ext cx="2590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9900"/>
                </a:solidFill>
                <a:latin typeface="Times New Roman"/>
              </a:rPr>
              <a:t>180</a:t>
            </a:r>
            <a:r>
              <a:rPr b="0" lang="en-US" sz="55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°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62120" y="3200400"/>
            <a:ext cx="6933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 = 180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48769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65530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H="1" flipV="1">
            <a:off x="4272120" y="4071240"/>
            <a:ext cx="3826440" cy="877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4952880" y="4952880"/>
            <a:ext cx="3200400" cy="19051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28600" y="4114800"/>
            <a:ext cx="4800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nscribed angle = </a:t>
            </a:r>
            <a:r>
              <a:rPr b="0" lang="en-US" sz="55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½minor arc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1911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0" lang="en-US" sz="5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78168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cc"/>
                </a:solidFill>
                <a:latin typeface="Times New Roman"/>
              </a:rPr>
              <a:t>34</a:t>
            </a:r>
            <a:r>
              <a:rPr b="0" lang="en-US" sz="5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9:33:29Z</dcterms:created>
  <dc:creator>wgchandler</dc:creator>
  <dc:description/>
  <dc:language>en-US</dc:language>
  <cp:lastModifiedBy>BeasoA</cp:lastModifiedBy>
  <dcterms:modified xsi:type="dcterms:W3CDTF">2010-10-03T15:11:27Z</dcterms:modified>
  <cp:revision>7</cp:revision>
  <dc:subject/>
  <dc:title>Circles</dc:title>
</cp:coreProperties>
</file>